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E25-D00C-4BC6-ACD9-9D9AD8B0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12E-CDA9-4FDD-B98D-C8B57B89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D46-6168-4082-A913-4D82E1F4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89B-EEA0-45B5-B047-3CD80E30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CE13-D26D-4849-B582-C2803006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E79C-FE11-4E7D-9982-C2B3A79B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1671-3087-4C62-B6AF-A26D7483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4049-A069-415E-8794-763D753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A0BA-9F77-4724-817A-D8962AC1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FE4-7CDB-4C74-984E-0A1C7292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970B-D271-4059-9777-45D5E69F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FC4-03A2-4C1A-ADD6-0D658A18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07EF-0363-4690-AE68-18EA9DB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6F4-C177-4850-8B56-171BDD8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B39A-01DF-4A70-A854-2BC66244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814F-CF33-4050-B885-BB332E4D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75D9-FDF1-4645-A7B3-A58A730D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AC4-3937-47D8-A621-AA3EA02C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BD0-CCAF-45BA-A87B-0D878F72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F03-0EC7-40A4-A73F-8C9CB183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7C9-CCD4-459F-A493-AF04E762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300-AF31-4628-A97E-29877286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FC4-F7EB-4CE2-A0CB-84B6870C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F8C-4287-4114-A978-CA9B5BB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6D8A-745C-49DF-B9CD-F017EAF75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713B-C45D-48D4-B002-305587E3D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elcome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ease pick up a binder and a differentiation book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ign for the boo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date your Nspire software and download files for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eat .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mpered by He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groups of six or sev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ee group ro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:  Determine the average height of the members of your group using only the materials provi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easurement, one c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alculations (no mental ma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mpered by Height (INB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right s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out your group’s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left s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on your group’s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is activity help you understand the concept of aver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this activity benefit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ust a Mome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/Science Breakout Ses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chool Science: 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School Science: 2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chool Math: 2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School Math: 2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turn for lunch at 11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I-Nspire: Differentiation at it’s Bes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o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bies:  Scavenger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pe:  Man on th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dratic Equations:  Beach Ball Bo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one to work thr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Option: Use projector and software as a gro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son Plann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5E Lesson aligned with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6w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questions at different levels of Bloom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ail or turn in a hard copy of your lesson before you leave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lections on the 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moment to reflect on the worksh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your thoughts, questions, ideas, ahas and plans in your interactive noteboo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with a part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d to what is written: ideas, thoughts, questions, a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valuation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you Tuesday, January 2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:30 – 6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5:43:33Z</dcterms:created>
  <dc:creator>HISD</dc:creator>
  <dc:description/>
  <dc:language>en-US</dc:language>
  <cp:lastModifiedBy>HISD</cp:lastModifiedBy>
  <dcterms:modified xsi:type="dcterms:W3CDTF">2009-01-14T21:22:22Z</dcterms:modified>
  <cp:revision>3</cp:revision>
  <dc:subject/>
  <dc:title>Slide 1</dc:title>
</cp:coreProperties>
</file>